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5F2A-28B3-41D1-89C8-24E435B7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17D4-1864-489B-BEB6-40A5D8D0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FB60-6F9B-483A-84DA-7ED31F88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C6CE-D70B-40BF-AA35-20B3C371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7942-EE3C-4634-8E07-04BD35E8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49E1-05EE-41A6-8293-D70D9735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BC16-B9E5-45B1-9BC9-3D47F138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F19C-DBF5-4F34-AD23-4D5543CA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4BC8-10A0-4DCF-8DD3-551A5AA9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0B07-B236-49E3-95E6-B65BFCC6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0716-199D-4931-B4AF-2919A39D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75CB-89A2-47A1-863B-6A2F47B7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24C5-FE88-433D-A82D-D1AB629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744-FC41-42AF-A61E-7C4C2A08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B05A-87E7-4B19-BD06-F138773A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69F6-86FF-49B8-9195-00B70507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37B0-DE6B-40D8-95DD-73AD701F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F76B-98F8-44F6-B6FC-0176274A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4036-FC16-483D-8EF4-32E9F64E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FBD3-2721-40ED-AC02-5C04E15F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2CC1-D6F6-4346-987D-FF72EC95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0D57-56B5-490C-83D3-E85C1AE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72AA-864F-4287-BEB8-53418FA6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DBC7-D042-4548-B3BB-FD0A2318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3688-13D6-4706-A356-B6E6402856B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DDB4-8DC1-4595-AAE8-258B7E51971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289080"/>
            <a:ext cx="1113156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7 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20</a:t>
            </a:r>
            <a:r>
              <a:rPr b="1" lang="bg-BG" sz="3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Ерусалим възлюбе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граде роден м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ли в твоите сте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тигна на покой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жено си пристанищ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ожии светц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еб няма скръб, ни ядов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 грижи, ни сълз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74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Светла земя, славна земя! В теб няма скръб, ни ядове, ни грижи, ни сълз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9280" y="17172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еб улиците, крепост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 злато и елмаз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твоите бисерни врат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ще вляза аз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лънце няма нужда т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месец и звезди -на всеки дава Господ сам в сияние да блестя!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79280" y="274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Светла земя, славна земя! В теб няма скръб, ни ядове, ни грижи, ни сълз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2218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тените ти съзирам а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лазурни висот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копнеж въздишам всеки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воите красо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слава несравнима там Голготский кръст светлей! Отиват там в небесний храм, хвала да Му пеят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74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Светла земя, славна земя! В теб няма скръб, ни ядове, ни грижи, ни сълз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10:08:59Z</dcterms:modified>
  <cp:revision>52</cp:revision>
  <dc:subject/>
  <dc:title>Slide 1</dc:title>
</cp:coreProperties>
</file>